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1.png" ContentType="image/png"/>
  <Override PartName="/ppt/media/image19.jpeg" ContentType="image/jpeg"/>
  <Override PartName="/ppt/media/image9.jpeg" ContentType="image/jpeg"/>
  <Override PartName="/ppt/media/image12.png" ContentType="image/png"/>
  <Override PartName="/ppt/media/image7.png" ContentType="image/png"/>
  <Override PartName="/ppt/media/image13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A641D-C633-49E0-BAC2-74D161949C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CE0EA-CA93-4389-B333-70DDCCD54B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77EF-72D2-499F-B0B4-A08330E24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35E7-5BCD-493F-AB11-CF24C7771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D392-F380-4506-ACA5-8AE3F2E89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3988-E2C2-4FB0-8E1B-0EFC04DBC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8E32-9BA9-4B4E-89EE-2742479F6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F675-0D4F-41E1-A07F-ADC1F36E5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D68B-8E2F-4FD1-82D0-5591B7531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CA15-0C58-40E0-BC4F-7206254B7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A2A0-097D-4EEA-858C-4D3C2B3CC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A8F3-845E-48EC-B494-7F6065302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B341-2046-4A6C-809F-80A3C68C8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FECC-A114-41DC-8844-AEDD11383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D46B2-3F79-4CF1-A089-D7CEEDD2B2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tqnyc.org/NYC040844/image/Chromosome.gif&amp;imgrefurl=http://www.tqnyc.org/NYC040844/Mitosis.htm&amp;h=480&amp;w=542&amp;sz=148&amp;tbnid=zjqy5FXJzo4J:&amp;tbnh=115&amp;tbnw=130&amp;hl=en&amp;start=4&amp;prev=/images%3Fq%3Dchromosome%26svnum%3D10%26hl%3Den%26lr%3D%26sa%3DN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ELL GROWTH &amp; DIVI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apter 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Biology 39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0" name="Object 2"/>
          <p:cNvGraphicFramePr/>
          <p:nvPr/>
        </p:nvGraphicFramePr>
        <p:xfrm>
          <a:off x="1066680" y="228600"/>
          <a:ext cx="6886800" cy="18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28600"/>
                    <a:ext cx="688680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5" descr="DNA%20proton%20tunnelling2"/>
          <p:cNvPicPr/>
          <p:nvPr/>
        </p:nvPicPr>
        <p:blipFill>
          <a:blip r:embed="rId1"/>
          <a:stretch/>
        </p:blipFill>
        <p:spPr>
          <a:xfrm>
            <a:off x="457200" y="380880"/>
            <a:ext cx="3657600" cy="60962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" descr="dna-base%20pairs"/>
          <p:cNvPicPr/>
          <p:nvPr/>
        </p:nvPicPr>
        <p:blipFill>
          <a:blip r:embed="rId2"/>
          <a:stretch/>
        </p:blipFill>
        <p:spPr>
          <a:xfrm>
            <a:off x="4114800" y="457200"/>
            <a:ext cx="4809960" cy="60199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AtomLabeledLarge"/>
          <p:cNvPicPr/>
          <p:nvPr/>
        </p:nvPicPr>
        <p:blipFill>
          <a:blip r:embed="rId3"/>
          <a:stretch/>
        </p:blipFill>
        <p:spPr>
          <a:xfrm>
            <a:off x="2819520" y="304920"/>
            <a:ext cx="140472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at is a chromosom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3" descr="c09_a"/>
          <p:cNvPicPr/>
          <p:nvPr/>
        </p:nvPicPr>
        <p:blipFill>
          <a:blip r:embed="rId1"/>
          <a:stretch/>
        </p:blipFill>
        <p:spPr>
          <a:xfrm>
            <a:off x="558720" y="838080"/>
            <a:ext cx="7747200" cy="581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hromosom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le the cell is “resting”, you cannot see the chromosom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 is unwou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lled chromat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le the cell is dividing, you can see the chromosom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ound u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de of two sister chromatids connected by a centrom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4" descr="Chromosom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56320" y="5394240"/>
            <a:ext cx="162576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Cell Cyc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ccurs in eukaryotic cel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the period of time from the beginning of one cell division to the beginning of the ne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ell doubles its contents so that it is ready to divide into two completely independent cel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 Cell Cycl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ists of 4 phas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1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ntense growth and activity; new proteins and organelles are produc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 phase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opying of chromoso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2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ntense growth and activity; new proteins and organelles are produc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hortest of the three pha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 phase – mitosi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he division of the cell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ucleus and cytokine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ell Cycle R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ells do not move through the cell cycle at the same r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09120" y="2361960"/>
            <a:ext cx="80773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ells in a developing embryo replicate rapidly- 3 minu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verage time of cell cycle- 20 hou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ining of esophagus- 2-3 day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ining of small intestine- 1-2 day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ining of large intestine- 6 day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d blood cells-120 day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ite blood cells- 10hrs-decad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ell Cycle R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ell stops growing in G1 ph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ce conditions are right, cell will leave G1 and go through S phase, G2, and M ph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me cells stop going through the cell cycle.  They are permanently in the G1 stage (normal cell function).   This stage is referred to as G0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rdiac musc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rve cells (mos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d blood cel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 phas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ell divi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cess in which the cell divides into two independent cell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aughter cel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cess is called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itosi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n eukaryotes and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inary fiss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n prokaryo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6" name="Object 2"/>
          <p:cNvGraphicFramePr/>
          <p:nvPr/>
        </p:nvGraphicFramePr>
        <p:xfrm>
          <a:off x="990720" y="4648320"/>
          <a:ext cx="6886440" cy="18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4648320"/>
                    <a:ext cx="688644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Oval 1028"/>
          <p:cNvSpPr/>
          <p:nvPr/>
        </p:nvSpPr>
        <p:spPr>
          <a:xfrm>
            <a:off x="3213000" y="1419120"/>
            <a:ext cx="1828800" cy="7239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029"/>
          <p:cNvSpPr/>
          <p:nvPr/>
        </p:nvSpPr>
        <p:spPr>
          <a:xfrm>
            <a:off x="4127400" y="2143080"/>
            <a:ext cx="0" cy="16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030"/>
          <p:cNvSpPr/>
          <p:nvPr/>
        </p:nvSpPr>
        <p:spPr>
          <a:xfrm>
            <a:off x="3556080" y="230652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lu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038"/>
          <p:cNvSpPr/>
          <p:nvPr/>
        </p:nvSpPr>
        <p:spPr>
          <a:xfrm>
            <a:off x="1946160" y="3765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039"/>
          <p:cNvSpPr/>
          <p:nvPr/>
        </p:nvSpPr>
        <p:spPr>
          <a:xfrm>
            <a:off x="1146240" y="40561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divided i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041"/>
          <p:cNvSpPr/>
          <p:nvPr/>
        </p:nvSpPr>
        <p:spPr>
          <a:xfrm>
            <a:off x="689040" y="4572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047"/>
          <p:cNvSpPr/>
          <p:nvPr/>
        </p:nvSpPr>
        <p:spPr>
          <a:xfrm>
            <a:off x="3189240" y="4572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053"/>
          <p:cNvSpPr/>
          <p:nvPr/>
        </p:nvSpPr>
        <p:spPr>
          <a:xfrm>
            <a:off x="689040" y="45720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054"/>
          <p:cNvSpPr/>
          <p:nvPr/>
        </p:nvSpPr>
        <p:spPr>
          <a:xfrm>
            <a:off x="5514840" y="40561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divided i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056"/>
          <p:cNvSpPr/>
          <p:nvPr/>
        </p:nvSpPr>
        <p:spPr>
          <a:xfrm>
            <a:off x="6315120" y="3736800"/>
            <a:ext cx="0" cy="3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046"/>
          <p:cNvSpPr/>
          <p:nvPr/>
        </p:nvSpPr>
        <p:spPr>
          <a:xfrm>
            <a:off x="4441680" y="4572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045"/>
          <p:cNvSpPr/>
          <p:nvPr/>
        </p:nvSpPr>
        <p:spPr>
          <a:xfrm>
            <a:off x="5692680" y="4572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044"/>
          <p:cNvSpPr/>
          <p:nvPr/>
        </p:nvSpPr>
        <p:spPr>
          <a:xfrm>
            <a:off x="6943680" y="4572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043"/>
          <p:cNvSpPr/>
          <p:nvPr/>
        </p:nvSpPr>
        <p:spPr>
          <a:xfrm>
            <a:off x="8194680" y="4572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062"/>
          <p:cNvSpPr/>
          <p:nvPr/>
        </p:nvSpPr>
        <p:spPr>
          <a:xfrm>
            <a:off x="4441680" y="4572000"/>
            <a:ext cx="374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063"/>
          <p:cNvSpPr/>
          <p:nvPr/>
        </p:nvSpPr>
        <p:spPr>
          <a:xfrm>
            <a:off x="6315120" y="4343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051"/>
          <p:cNvSpPr/>
          <p:nvPr/>
        </p:nvSpPr>
        <p:spPr>
          <a:xfrm>
            <a:off x="1940040" y="43434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590560" y="78480"/>
            <a:ext cx="5105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Line 1031"/>
          <p:cNvSpPr/>
          <p:nvPr/>
        </p:nvSpPr>
        <p:spPr>
          <a:xfrm>
            <a:off x="4127400" y="2562120"/>
            <a:ext cx="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032"/>
          <p:cNvSpPr/>
          <p:nvPr/>
        </p:nvSpPr>
        <p:spPr>
          <a:xfrm>
            <a:off x="1943280" y="2752560"/>
            <a:ext cx="4381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033"/>
          <p:cNvSpPr/>
          <p:nvPr/>
        </p:nvSpPr>
        <p:spPr>
          <a:xfrm>
            <a:off x="1946160" y="27525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074"/>
          <p:cNvSpPr/>
          <p:nvPr/>
        </p:nvSpPr>
        <p:spPr>
          <a:xfrm>
            <a:off x="6315120" y="27525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075"/>
          <p:cNvSpPr/>
          <p:nvPr/>
        </p:nvSpPr>
        <p:spPr>
          <a:xfrm>
            <a:off x="838080" y="76212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Section 10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1076"/>
          <p:cNvSpPr/>
          <p:nvPr/>
        </p:nvSpPr>
        <p:spPr>
          <a:xfrm>
            <a:off x="3236760" y="1428840"/>
            <a:ext cx="1828800" cy="7239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ell Cy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1078"/>
          <p:cNvSpPr/>
          <p:nvPr/>
        </p:nvSpPr>
        <p:spPr>
          <a:xfrm>
            <a:off x="163440" y="4869000"/>
            <a:ext cx="1096920" cy="4572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1084"/>
          <p:cNvSpPr/>
          <p:nvPr/>
        </p:nvSpPr>
        <p:spPr>
          <a:xfrm>
            <a:off x="1414440" y="4869000"/>
            <a:ext cx="1096920" cy="4572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1086"/>
          <p:cNvSpPr/>
          <p:nvPr/>
        </p:nvSpPr>
        <p:spPr>
          <a:xfrm>
            <a:off x="1360440" y="3089160"/>
            <a:ext cx="1219320" cy="6858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1087"/>
          <p:cNvSpPr/>
          <p:nvPr/>
        </p:nvSpPr>
        <p:spPr>
          <a:xfrm>
            <a:off x="5729400" y="3089160"/>
            <a:ext cx="1218960" cy="6858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1088"/>
          <p:cNvSpPr/>
          <p:nvPr/>
        </p:nvSpPr>
        <p:spPr>
          <a:xfrm>
            <a:off x="2665440" y="4869000"/>
            <a:ext cx="1096920" cy="4572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1089"/>
          <p:cNvSpPr/>
          <p:nvPr/>
        </p:nvSpPr>
        <p:spPr>
          <a:xfrm>
            <a:off x="3916440" y="4869000"/>
            <a:ext cx="1096920" cy="4572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1090"/>
          <p:cNvSpPr/>
          <p:nvPr/>
        </p:nvSpPr>
        <p:spPr>
          <a:xfrm>
            <a:off x="5180040" y="4869000"/>
            <a:ext cx="1096920" cy="4572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1093"/>
          <p:cNvSpPr/>
          <p:nvPr/>
        </p:nvSpPr>
        <p:spPr>
          <a:xfrm>
            <a:off x="6402240" y="4869000"/>
            <a:ext cx="1097280" cy="4572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1094"/>
          <p:cNvSpPr/>
          <p:nvPr/>
        </p:nvSpPr>
        <p:spPr>
          <a:xfrm>
            <a:off x="7669080" y="4869000"/>
            <a:ext cx="1096920" cy="4572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Group 1114"/>
          <p:cNvGrpSpPr/>
          <p:nvPr/>
        </p:nvGrpSpPr>
        <p:grpSpPr>
          <a:xfrm>
            <a:off x="1442880" y="3187800"/>
            <a:ext cx="5415120" cy="459000"/>
            <a:chOff x="1442880" y="3187800"/>
            <a:chExt cx="5415120" cy="459000"/>
          </a:xfrm>
        </p:grpSpPr>
        <p:sp>
          <p:nvSpPr>
            <p:cNvPr id="132" name="Text Box 1095"/>
            <p:cNvSpPr/>
            <p:nvPr/>
          </p:nvSpPr>
          <p:spPr>
            <a:xfrm>
              <a:off x="5838840" y="3187800"/>
              <a:ext cx="10191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M phas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(Mitosi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Text Box 1096"/>
            <p:cNvSpPr/>
            <p:nvPr/>
          </p:nvSpPr>
          <p:spPr>
            <a:xfrm>
              <a:off x="1442880" y="3262320"/>
              <a:ext cx="1070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Interphas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Group 1106"/>
          <p:cNvGrpSpPr/>
          <p:nvPr/>
        </p:nvGrpSpPr>
        <p:grpSpPr>
          <a:xfrm>
            <a:off x="285840" y="4957920"/>
            <a:ext cx="8416800" cy="301320"/>
            <a:chOff x="285840" y="4957920"/>
            <a:chExt cx="8416800" cy="301320"/>
          </a:xfrm>
        </p:grpSpPr>
        <p:sp>
          <p:nvSpPr>
            <p:cNvPr id="135" name="Text Box 1107"/>
            <p:cNvSpPr/>
            <p:nvPr/>
          </p:nvSpPr>
          <p:spPr>
            <a:xfrm>
              <a:off x="285840" y="4957920"/>
              <a:ext cx="8604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G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Calibri"/>
                </a:rPr>
                <a:t>1</a:t>
              </a: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 phas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 Box 1108"/>
            <p:cNvSpPr/>
            <p:nvPr/>
          </p:nvSpPr>
          <p:spPr>
            <a:xfrm>
              <a:off x="1533600" y="4957920"/>
              <a:ext cx="860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S phas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 Box 1109"/>
            <p:cNvSpPr/>
            <p:nvPr/>
          </p:nvSpPr>
          <p:spPr>
            <a:xfrm>
              <a:off x="4038480" y="4957920"/>
              <a:ext cx="860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Prophas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Box 1110"/>
            <p:cNvSpPr/>
            <p:nvPr/>
          </p:nvSpPr>
          <p:spPr>
            <a:xfrm>
              <a:off x="2727360" y="4957920"/>
              <a:ext cx="9954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G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Calibri"/>
                </a:rPr>
                <a:t>2</a:t>
              </a: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 phas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 Box 1111"/>
            <p:cNvSpPr/>
            <p:nvPr/>
          </p:nvSpPr>
          <p:spPr>
            <a:xfrm>
              <a:off x="5216400" y="4957920"/>
              <a:ext cx="1046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Metaphas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 Box 1112"/>
            <p:cNvSpPr/>
            <p:nvPr/>
          </p:nvSpPr>
          <p:spPr>
            <a:xfrm>
              <a:off x="7743960" y="4957920"/>
              <a:ext cx="958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Telophas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Text Box 1113"/>
            <p:cNvSpPr/>
            <p:nvPr/>
          </p:nvSpPr>
          <p:spPr>
            <a:xfrm>
              <a:off x="6488280" y="4957920"/>
              <a:ext cx="90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Anaphas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ito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 of cell divi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vided into four main pha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ph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taph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aph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loph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4" name="Object 2"/>
          <p:cNvGraphicFramePr/>
          <p:nvPr/>
        </p:nvGraphicFramePr>
        <p:xfrm>
          <a:off x="3200400" y="4648320"/>
          <a:ext cx="5591160" cy="18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4648320"/>
                    <a:ext cx="559116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maller is Bet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bigger the cell becomes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more demands the cell places on its DNA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more trouble moving enough nutrients and wastes across the cell membra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ph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ngest of the four pha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pearance of chromosom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reation of sister chromati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tached at the centrom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ucleus undergoes several chang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uclear membrane begins to breakdow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Picture 3" descr="c09_03"/>
          <p:cNvPicPr/>
          <p:nvPr/>
        </p:nvPicPr>
        <p:blipFill>
          <a:blip r:embed="rId1"/>
          <a:stretch/>
        </p:blipFill>
        <p:spPr>
          <a:xfrm>
            <a:off x="5867280" y="304920"/>
            <a:ext cx="3276720" cy="39621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6" descr="http://www.biologycorner.com/resources/mitosis/mitosis_prophase.gif"/>
          <p:cNvPicPr/>
          <p:nvPr/>
        </p:nvPicPr>
        <p:blipFill>
          <a:blip r:embed="rId2"/>
          <a:stretch/>
        </p:blipFill>
        <p:spPr>
          <a:xfrm>
            <a:off x="7315200" y="4648320"/>
            <a:ext cx="1625760" cy="17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ph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indle begins to for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ries of microtubules that span the cel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urpose is to pull chromatids apa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romosomes attach to the spindle at the centrom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animals, spindle is created by the centrio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plants, spindle is created between the cell wa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lants do not have centrio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8" descr="centriole"/>
          <p:cNvPicPr/>
          <p:nvPr/>
        </p:nvPicPr>
        <p:blipFill>
          <a:blip r:embed="rId1"/>
          <a:stretch/>
        </p:blipFill>
        <p:spPr>
          <a:xfrm>
            <a:off x="6172200" y="4495680"/>
            <a:ext cx="26668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taph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ortest phase of mito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romosomes line up in the middle of the ce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5" name="Object 2"/>
          <p:cNvGraphicFramePr/>
          <p:nvPr/>
        </p:nvGraphicFramePr>
        <p:xfrm>
          <a:off x="990720" y="3733920"/>
          <a:ext cx="7191360" cy="251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733920"/>
                    <a:ext cx="719136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157" name="Straight Arrow Connector 5"/>
          <p:cNvCxnSpPr/>
          <p:nvPr/>
        </p:nvCxnSpPr>
        <p:spPr>
          <a:xfrm flipH="1">
            <a:off x="4493520" y="3430080"/>
            <a:ext cx="3960" cy="381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aph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entromeres spl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ster chromatids are pulled to the opposite ends of the ce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Picture 5" descr="http://www.brhs.ab.ca/courses/biology30/bpages/unit2/quiz/anaphase_1.gif"/>
          <p:cNvPicPr/>
          <p:nvPr/>
        </p:nvPicPr>
        <p:blipFill>
          <a:blip r:embed="rId1"/>
          <a:stretch/>
        </p:blipFill>
        <p:spPr>
          <a:xfrm>
            <a:off x="5334120" y="3886200"/>
            <a:ext cx="286704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029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loph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indle breaks dow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uclear membrane forms around the chromosomes aga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romosomes unwind to chromatin aga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Picture 5" descr="http://www.ivy-rose.co.uk/Topics/Cell_Structures/Telophase_cIvyRose.jpg"/>
          <p:cNvPicPr/>
          <p:nvPr/>
        </p:nvPicPr>
        <p:blipFill>
          <a:blip r:embed="rId1"/>
          <a:stretch/>
        </p:blipFill>
        <p:spPr>
          <a:xfrm>
            <a:off x="5334120" y="380880"/>
            <a:ext cx="3438360" cy="21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Biology Interface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629120" y="6915240"/>
            <a:ext cx="1514520" cy="21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Video 1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38280" y="4971600"/>
            <a:ext cx="7772400" cy="39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he image to play the video segmen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 Box 6"/>
          <p:cNvSpPr/>
          <p:nvPr/>
        </p:nvSpPr>
        <p:spPr>
          <a:xfrm>
            <a:off x="2590920" y="231840"/>
            <a:ext cx="51051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Video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7"/>
          <p:cNvSpPr/>
          <p:nvPr/>
        </p:nvSpPr>
        <p:spPr>
          <a:xfrm>
            <a:off x="3094200" y="1982880"/>
            <a:ext cx="194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imal Cell Mito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8" descr="forward arrow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043840" y="6010200"/>
            <a:ext cx="703440" cy="6732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9" descr="back-arrow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7332840" y="6010200"/>
            <a:ext cx="703080" cy="673200"/>
          </a:xfrm>
          <a:prstGeom prst="rect">
            <a:avLst/>
          </a:prstGeom>
          <a:ln w="0">
            <a:noFill/>
          </a:ln>
        </p:spPr>
      </p:pic>
      <p:pic>
        <p:nvPicPr>
          <p:cNvPr id="171" name="Chapter 10A.mpg" descr=""/>
          <p:cNvPicPr/>
          <p:nvPr/>
        </p:nvPicPr>
        <p:blipFill>
          <a:blip r:embed="rId4"/>
          <a:stretch/>
        </p:blipFill>
        <p:spPr>
          <a:xfrm>
            <a:off x="704880" y="635040"/>
            <a:ext cx="7505640" cy="56293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1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ytokine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cess of the cytoplasm divi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animals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cell pinches in at the middle to create two new cel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plant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cell plate is created in the middle of the ce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3" descr="c09_06"/>
          <p:cNvPicPr/>
          <p:nvPr/>
        </p:nvPicPr>
        <p:blipFill>
          <a:blip r:embed="rId1"/>
          <a:stretch/>
        </p:blipFill>
        <p:spPr>
          <a:xfrm>
            <a:off x="584280" y="762120"/>
            <a:ext cx="8102520" cy="57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changing Material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4582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te at which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xchang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f wastes, nutrients, gases takes place depends on the surface of the ce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rface area =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ngt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idt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# of sid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te at which nutrients and gases ar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used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p and wastes are made depends on volume of the ce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olume =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ngt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idt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eigh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rface to Volume rati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olume increases much faster than surface area when a cell is grow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change of materials cannot keep up with the dem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maller cells have a larger surface area to volume rati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ans there is more surface area for materials to fit in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 to Volume Rati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16" descr="bio_ch10_6028"/>
          <p:cNvPicPr/>
          <p:nvPr/>
        </p:nvPicPr>
        <p:blipFill>
          <a:blip r:embed="rId1"/>
          <a:stretch/>
        </p:blipFill>
        <p:spPr>
          <a:xfrm>
            <a:off x="561960" y="1219320"/>
            <a:ext cx="8020080" cy="533376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4"/>
          <p:cNvSpPr/>
          <p:nvPr/>
        </p:nvSpPr>
        <p:spPr>
          <a:xfrm>
            <a:off x="609480" y="4495680"/>
            <a:ext cx="191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urface Are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533520" y="5257800"/>
            <a:ext cx="191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olu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609480" y="5943600"/>
            <a:ext cx="191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A to Vol rati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whole"/>
          <p:cNvPicPr/>
          <p:nvPr/>
        </p:nvPicPr>
        <p:blipFill>
          <a:blip r:embed="rId1"/>
          <a:stretch/>
        </p:blipFill>
        <p:spPr>
          <a:xfrm>
            <a:off x="457200" y="533520"/>
            <a:ext cx="8153280" cy="620208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MITO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259092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Chapter 10-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ell Divi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066680"/>
            <a:ext cx="830592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 order to stay the same size, cells must divid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plit in 2: “daughter cells”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re EXACT copies of each other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CLON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efore dividing, the cell must duplicate everything (DNA &amp; organelles) so that everything is the sam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rokaryotes are simpler (no organelles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fter DNA is copied, cell splits in two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ach new cell contains a copy of the DNA called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binary fiss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xample of asexual reproduc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3008520" cy="793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ell Division in Eukaryo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2209320"/>
            <a:ext cx="308448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ccurs in stag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.) Prepar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dupli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.) Division of D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.) Division of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ytoplas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1027" descr="bio_ch10_4504"/>
          <p:cNvPicPr/>
          <p:nvPr/>
        </p:nvPicPr>
        <p:blipFill>
          <a:blip r:embed="rId1"/>
          <a:stretch/>
        </p:blipFill>
        <p:spPr>
          <a:xfrm>
            <a:off x="3352680" y="838080"/>
            <a:ext cx="54579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hromosom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ructure that carry genetic inform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de up of DNA and protein (histon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NA coils very tightly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egree of coiling leads to whether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NA is visible or invisi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ach eukaryote has a characterist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umber of chromosomes in th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ucleus of each cel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umans- 4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og- 7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ousefly- 1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otato plant- 4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t- 3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pergillus (fungus)- 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rosophila (fly) - 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3" descr="c09_03"/>
          <p:cNvPicPr/>
          <p:nvPr/>
        </p:nvPicPr>
        <p:blipFill>
          <a:blip r:embed="rId1"/>
          <a:stretch/>
        </p:blipFill>
        <p:spPr>
          <a:xfrm>
            <a:off x="4724280" y="3048120"/>
            <a:ext cx="38102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9T21:37:34Z</dcterms:created>
  <dc:creator>Joanne Lilliendahl</dc:creator>
  <dc:description/>
  <dc:language>en-US</dc:language>
  <cp:lastModifiedBy>Preferred Customer</cp:lastModifiedBy>
  <dcterms:modified xsi:type="dcterms:W3CDTF">2010-03-23T10:04:33Z</dcterms:modified>
  <cp:revision>33</cp:revision>
  <dc:subject/>
  <dc:title>Slide 1</dc:title>
</cp:coreProperties>
</file>